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E40-2295-40B3-BCB3-8C68688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D93-80D6-4CFB-AA79-F76CFF47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E94-4D9C-4A85-AFD2-380D4667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4A9-A01F-4AA8-BAD0-1448C9EA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ED5-C924-4447-A137-7164BD3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A3AA-2222-47CB-A662-05AE58FB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77B-3FB2-48EA-A16C-632C77B4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ED1-E8A4-42A7-A0D2-C7757234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DEB-EA6F-424C-9387-6295B36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8E7-47E4-4909-BBB9-13E4361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EB3-1C82-4B31-98E9-F0610B5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5E1-8A4C-46A7-93A2-520E484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7CEE-01A1-4C5B-9CEB-2ABA48778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alga mojad</a:t>
            </a: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950720" y="510552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arena mojad</a:t>
            </a:r>
            <a:r>
              <a:rPr b="0" lang="es-ES" sz="4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87"/>
          <p:cNvGrpSpPr/>
          <p:nvPr/>
        </p:nvGrpSpPr>
        <p:grpSpPr>
          <a:xfrm>
            <a:off x="1066680" y="3124080"/>
            <a:ext cx="2590200" cy="1522080"/>
            <a:chOff x="1066680" y="3124080"/>
            <a:chExt cx="2590200" cy="1522080"/>
          </a:xfrm>
        </p:grpSpPr>
        <p:sp>
          <p:nvSpPr>
            <p:cNvPr id="44" name="Freeform 11"/>
            <p:cNvSpPr/>
            <p:nvPr/>
          </p:nvSpPr>
          <p:spPr>
            <a:xfrm>
              <a:off x="1066680" y="3124080"/>
              <a:ext cx="2590200" cy="152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12"/>
            <p:cNvSpPr/>
            <p:nvPr/>
          </p:nvSpPr>
          <p:spPr>
            <a:xfrm>
              <a:off x="1076040" y="4101120"/>
              <a:ext cx="2560680" cy="539280"/>
            </a:xfrm>
            <a:prstGeom prst="pie">
              <a:avLst/>
            </a:prstGeom>
            <a:solidFill>
              <a:srgbClr val="ffe8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1135440" y="3266640"/>
              <a:ext cx="757800" cy="1273680"/>
            </a:xfrm>
            <a:prstGeom prst="pie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7"/>
            <p:cNvSpPr/>
            <p:nvPr/>
          </p:nvSpPr>
          <p:spPr>
            <a:xfrm>
              <a:off x="1390320" y="3394080"/>
              <a:ext cx="371520" cy="11408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1916280" y="3240360"/>
              <a:ext cx="12240" cy="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49"/>
            <p:cNvSpPr/>
            <p:nvPr/>
          </p:nvSpPr>
          <p:spPr>
            <a:xfrm>
              <a:off x="2513880" y="3235680"/>
              <a:ext cx="12240" cy="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88"/>
            <p:cNvSpPr/>
            <p:nvPr/>
          </p:nvSpPr>
          <p:spPr>
            <a:xfrm>
              <a:off x="2997000" y="3140280"/>
              <a:ext cx="636840" cy="1243440"/>
            </a:xfrm>
            <a:prstGeom prst="pie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98"/>
            <p:cNvSpPr/>
            <p:nvPr/>
          </p:nvSpPr>
          <p:spPr>
            <a:xfrm>
              <a:off x="3111120" y="3433680"/>
              <a:ext cx="307080" cy="9608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86"/>
          <p:cNvGrpSpPr/>
          <p:nvPr/>
        </p:nvGrpSpPr>
        <p:grpSpPr>
          <a:xfrm>
            <a:off x="914400" y="457200"/>
            <a:ext cx="2909520" cy="1991880"/>
            <a:chOff x="914400" y="457200"/>
            <a:chExt cx="2909520" cy="1991880"/>
          </a:xfrm>
        </p:grpSpPr>
        <p:sp>
          <p:nvSpPr>
            <p:cNvPr id="53" name="AutoShape 106"/>
            <p:cNvSpPr/>
            <p:nvPr/>
          </p:nvSpPr>
          <p:spPr>
            <a:xfrm>
              <a:off x="914400" y="457200"/>
              <a:ext cx="2909520" cy="19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8"/>
            <p:cNvSpPr/>
            <p:nvPr/>
          </p:nvSpPr>
          <p:spPr>
            <a:xfrm>
              <a:off x="914400" y="457200"/>
              <a:ext cx="2909520" cy="1945080"/>
            </a:xfrm>
            <a:prstGeom prst="pie">
              <a:avLst/>
            </a:prstGeom>
            <a:solidFill>
              <a:srgbClr val="307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09"/>
            <p:cNvSpPr/>
            <p:nvPr/>
          </p:nvSpPr>
          <p:spPr>
            <a:xfrm>
              <a:off x="1298160" y="482040"/>
              <a:ext cx="2122920" cy="19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10"/>
            <p:cNvSpPr/>
            <p:nvPr/>
          </p:nvSpPr>
          <p:spPr>
            <a:xfrm>
              <a:off x="1328760" y="2232720"/>
              <a:ext cx="2053440" cy="1998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1"/>
            <p:cNvSpPr/>
            <p:nvPr/>
          </p:nvSpPr>
          <p:spPr>
            <a:xfrm>
              <a:off x="2124360" y="821880"/>
              <a:ext cx="387360" cy="1500840"/>
            </a:xfrm>
            <a:prstGeom prst="pie">
              <a:avLst/>
            </a:pr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12"/>
            <p:cNvSpPr/>
            <p:nvPr/>
          </p:nvSpPr>
          <p:spPr>
            <a:xfrm>
              <a:off x="1908360" y="497880"/>
              <a:ext cx="870120" cy="18223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115"/>
            <p:cNvSpPr/>
            <p:nvPr/>
          </p:nvSpPr>
          <p:spPr>
            <a:xfrm>
              <a:off x="1457640" y="2112120"/>
              <a:ext cx="507240" cy="5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131"/>
            <p:cNvSpPr/>
            <p:nvPr/>
          </p:nvSpPr>
          <p:spPr>
            <a:xfrm>
              <a:off x="1836360" y="1687320"/>
              <a:ext cx="36000" cy="7920"/>
            </a:xfrm>
            <a:prstGeom prst="pie">
              <a:avLst/>
            </a:pr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134"/>
            <p:cNvSpPr/>
            <p:nvPr/>
          </p:nvSpPr>
          <p:spPr>
            <a:xfrm>
              <a:off x="2854080" y="1720080"/>
              <a:ext cx="47700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135"/>
            <p:cNvSpPr/>
            <p:nvPr/>
          </p:nvSpPr>
          <p:spPr>
            <a:xfrm>
              <a:off x="1706760" y="1438200"/>
              <a:ext cx="896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36"/>
            <p:cNvSpPr/>
            <p:nvPr/>
          </p:nvSpPr>
          <p:spPr>
            <a:xfrm>
              <a:off x="1721880" y="1451880"/>
              <a:ext cx="63000" cy="5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137"/>
            <p:cNvSpPr/>
            <p:nvPr/>
          </p:nvSpPr>
          <p:spPr>
            <a:xfrm>
              <a:off x="1578240" y="1352880"/>
              <a:ext cx="986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138"/>
            <p:cNvSpPr/>
            <p:nvPr/>
          </p:nvSpPr>
          <p:spPr>
            <a:xfrm>
              <a:off x="1595880" y="1369800"/>
              <a:ext cx="6588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139"/>
            <p:cNvSpPr/>
            <p:nvPr/>
          </p:nvSpPr>
          <p:spPr>
            <a:xfrm>
              <a:off x="1121040" y="1361160"/>
              <a:ext cx="405720" cy="4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164"/>
            <p:cNvSpPr/>
            <p:nvPr/>
          </p:nvSpPr>
          <p:spPr>
            <a:xfrm>
              <a:off x="2839320" y="991440"/>
              <a:ext cx="896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65"/>
            <p:cNvSpPr/>
            <p:nvPr/>
          </p:nvSpPr>
          <p:spPr>
            <a:xfrm>
              <a:off x="2854080" y="1002600"/>
              <a:ext cx="59760" cy="5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71"/>
            <p:cNvSpPr/>
            <p:nvPr/>
          </p:nvSpPr>
          <p:spPr>
            <a:xfrm>
              <a:off x="2928960" y="849240"/>
              <a:ext cx="9864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72"/>
            <p:cNvSpPr/>
            <p:nvPr/>
          </p:nvSpPr>
          <p:spPr>
            <a:xfrm>
              <a:off x="2946600" y="859680"/>
              <a:ext cx="65880" cy="4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75"/>
            <p:cNvSpPr/>
            <p:nvPr/>
          </p:nvSpPr>
          <p:spPr>
            <a:xfrm>
              <a:off x="2827080" y="752760"/>
              <a:ext cx="9936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76"/>
            <p:cNvSpPr/>
            <p:nvPr/>
          </p:nvSpPr>
          <p:spPr>
            <a:xfrm>
              <a:off x="2844720" y="766440"/>
              <a:ext cx="658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77"/>
            <p:cNvSpPr/>
            <p:nvPr/>
          </p:nvSpPr>
          <p:spPr>
            <a:xfrm>
              <a:off x="1659240" y="717480"/>
              <a:ext cx="86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78"/>
            <p:cNvSpPr/>
            <p:nvPr/>
          </p:nvSpPr>
          <p:spPr>
            <a:xfrm>
              <a:off x="1674000" y="728640"/>
              <a:ext cx="5616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9"/>
            <p:cNvSpPr/>
            <p:nvPr/>
          </p:nvSpPr>
          <p:spPr>
            <a:xfrm>
              <a:off x="2950200" y="684360"/>
              <a:ext cx="658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0"/>
            <p:cNvSpPr/>
            <p:nvPr/>
          </p:nvSpPr>
          <p:spPr>
            <a:xfrm>
              <a:off x="1791360" y="690120"/>
              <a:ext cx="835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81"/>
            <p:cNvSpPr/>
            <p:nvPr/>
          </p:nvSpPr>
          <p:spPr>
            <a:xfrm>
              <a:off x="2965320" y="695520"/>
              <a:ext cx="3852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82"/>
            <p:cNvSpPr/>
            <p:nvPr/>
          </p:nvSpPr>
          <p:spPr>
            <a:xfrm>
              <a:off x="1802880" y="701280"/>
              <a:ext cx="54360" cy="4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83"/>
            <p:cNvSpPr/>
            <p:nvPr/>
          </p:nvSpPr>
          <p:spPr>
            <a:xfrm>
              <a:off x="1761120" y="569520"/>
              <a:ext cx="68760" cy="5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84"/>
            <p:cNvSpPr/>
            <p:nvPr/>
          </p:nvSpPr>
          <p:spPr>
            <a:xfrm>
              <a:off x="1776240" y="580680"/>
              <a:ext cx="36000" cy="2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" name="Picture 188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2666880" cy="1938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9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1673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El / 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gu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m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b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bue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r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a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1640" y="1066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lanc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queñ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mpátic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edos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eg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vertid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fiad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eo /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720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+   completa la fr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8"/>
          <p:cNvSpPr/>
          <p:nvPr/>
        </p:nvSpPr>
        <p:spPr>
          <a:xfrm>
            <a:off x="3200400" y="495288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nita brilla en el so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143000" y="3581280"/>
            <a:ext cx="1676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l/L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124080" y="167652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048120" y="2895480"/>
            <a:ext cx="5486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nita brilla en el so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523880" y="2895480"/>
            <a:ext cx="68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2057400" y="2895480"/>
            <a:ext cx="1143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ága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tro día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¿Qué pasa con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imes New Roman"/>
              </a:rPr>
              <a:t>otros determinante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3"/>
          <p:cNvSpPr/>
          <p:nvPr/>
        </p:nvSpPr>
        <p:spPr>
          <a:xfrm rot="2262000">
            <a:off x="823320" y="23875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Times New Roman"/>
              </a:rPr>
              <a:t>¿Qué pasa con un o un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2821320" y="-30240"/>
            <a:ext cx="28202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743560" y="1400040"/>
            <a:ext cx="3087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821680" y="2209680"/>
            <a:ext cx="3301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Un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896920" y="3352680"/>
            <a:ext cx="2797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ma bue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2820240" y="4541760"/>
            <a:ext cx="35668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Un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973600" y="5684760"/>
            <a:ext cx="22215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38052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U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lgú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Ningú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Es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quell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Poc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uestr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lg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ingun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Est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qu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Poc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Nuestr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ff00"/>
                </a:solidFill>
                <a:latin typeface="Times New Roman"/>
              </a:rPr>
              <a:t>h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as afilad</a:t>
            </a:r>
            <a:r>
              <a:rPr b="0" lang="es-ES" sz="28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tc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953600" y="2590920"/>
            <a:ext cx="279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eja buen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411880" y="5257800"/>
            <a:ext cx="3301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ejas buen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315200" y="3684600"/>
            <a:ext cx="762120" cy="554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wvzntiyk[1]"/>
          <p:cNvPicPr/>
          <p:nvPr/>
        </p:nvPicPr>
        <p:blipFill>
          <a:blip r:embed="rId2"/>
          <a:stretch/>
        </p:blipFill>
        <p:spPr>
          <a:xfrm>
            <a:off x="5486400" y="4648320"/>
            <a:ext cx="644400" cy="54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4eotvhfc[1]"/>
          <p:cNvPicPr/>
          <p:nvPr/>
        </p:nvPicPr>
        <p:blipFill>
          <a:blip r:embed="rId3"/>
          <a:stretch/>
        </p:blipFill>
        <p:spPr>
          <a:xfrm>
            <a:off x="7620120" y="454824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j0271136[1]"/>
          <p:cNvPicPr/>
          <p:nvPr/>
        </p:nvPicPr>
        <p:blipFill>
          <a:blip r:embed="rId4"/>
          <a:stretch/>
        </p:blipFill>
        <p:spPr>
          <a:xfrm>
            <a:off x="6248520" y="3505320"/>
            <a:ext cx="896760" cy="176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9" descr="j0125643[1]"/>
          <p:cNvPicPr/>
          <p:nvPr/>
        </p:nvPicPr>
        <p:blipFill>
          <a:blip r:embed="rId5"/>
          <a:stretch/>
        </p:blipFill>
        <p:spPr>
          <a:xfrm>
            <a:off x="6553080" y="380880"/>
            <a:ext cx="1179720" cy="2116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0"/>
          <p:cNvSpPr/>
          <p:nvPr/>
        </p:nvSpPr>
        <p:spPr>
          <a:xfrm>
            <a:off x="1374120" y="258840"/>
            <a:ext cx="262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 fresc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283040" y="3244680"/>
            <a:ext cx="3202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s fresc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2" descr=""/>
          <p:cNvPicPr/>
          <p:nvPr/>
        </p:nvPicPr>
        <p:blipFill>
          <a:blip r:embed="rId6"/>
          <a:stretch/>
        </p:blipFill>
        <p:spPr>
          <a:xfrm>
            <a:off x="1066680" y="1066680"/>
            <a:ext cx="266724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"/>
          <p:cNvPicPr/>
          <p:nvPr/>
        </p:nvPicPr>
        <p:blipFill>
          <a:blip r:embed="rId7"/>
          <a:stretch/>
        </p:blipFill>
        <p:spPr>
          <a:xfrm>
            <a:off x="304920" y="3962520"/>
            <a:ext cx="2001600" cy="216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"/>
          <p:cNvPicPr/>
          <p:nvPr/>
        </p:nvPicPr>
        <p:blipFill>
          <a:blip r:embed="rId8"/>
          <a:stretch/>
        </p:blipFill>
        <p:spPr>
          <a:xfrm>
            <a:off x="2514600" y="41911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296360" y="487440"/>
            <a:ext cx="2631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hacha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411520" y="457200"/>
            <a:ext cx="282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uela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44800" y="3886200"/>
            <a:ext cx="3205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hachas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83640" y="3886200"/>
            <a:ext cx="332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buelas viej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2525760" cy="187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474840" y="4694400"/>
            <a:ext cx="1430280" cy="1554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3"/>
          <a:stretch/>
        </p:blipFill>
        <p:spPr>
          <a:xfrm>
            <a:off x="2300400" y="4618080"/>
            <a:ext cx="166212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MCj03246180000[1]"/>
          <p:cNvPicPr/>
          <p:nvPr/>
        </p:nvPicPr>
        <p:blipFill>
          <a:blip r:embed="rId4"/>
          <a:stretch/>
        </p:blipFill>
        <p:spPr>
          <a:xfrm>
            <a:off x="5867280" y="1371600"/>
            <a:ext cx="1509840" cy="18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MCj00896260000[1]"/>
          <p:cNvPicPr/>
          <p:nvPr/>
        </p:nvPicPr>
        <p:blipFill>
          <a:blip r:embed="rId5"/>
          <a:stretch/>
        </p:blipFill>
        <p:spPr>
          <a:xfrm>
            <a:off x="4572000" y="4648320"/>
            <a:ext cx="1727280" cy="18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MCj01571970000[1]"/>
          <p:cNvPicPr/>
          <p:nvPr/>
        </p:nvPicPr>
        <p:blipFill>
          <a:blip r:embed="rId6"/>
          <a:stretch/>
        </p:blipFill>
        <p:spPr>
          <a:xfrm>
            <a:off x="6172200" y="4648320"/>
            <a:ext cx="134604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MCPE01075_0000[1]"/>
          <p:cNvPicPr/>
          <p:nvPr/>
        </p:nvPicPr>
        <p:blipFill>
          <a:blip r:embed="rId7"/>
          <a:stretch/>
        </p:blipFill>
        <p:spPr>
          <a:xfrm>
            <a:off x="7238880" y="4572000"/>
            <a:ext cx="15685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9520" y="304920"/>
            <a:ext cx="275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guila calv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11640" y="3352680"/>
            <a:ext cx="3326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guilas calv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953600" y="457200"/>
            <a:ext cx="333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aña pequeñ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650120" y="3276720"/>
            <a:ext cx="384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añas pequeñ</a:t>
            </a: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as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1860480" cy="1395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170080" cy="1629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3"/>
          <a:stretch/>
        </p:blipFill>
        <p:spPr>
          <a:xfrm>
            <a:off x="2590920" y="4529160"/>
            <a:ext cx="2057400" cy="154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5" descr="MCj04260220000[1]"/>
          <p:cNvPicPr/>
          <p:nvPr/>
        </p:nvPicPr>
        <p:blipFill>
          <a:blip r:embed="rId4"/>
          <a:stretch/>
        </p:blipFill>
        <p:spPr>
          <a:xfrm>
            <a:off x="6095880" y="1600200"/>
            <a:ext cx="1027080" cy="106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6" descr="MCj01334090000[1]"/>
          <p:cNvPicPr/>
          <p:nvPr/>
        </p:nvPicPr>
        <p:blipFill>
          <a:blip r:embed="rId5"/>
          <a:stretch/>
        </p:blipFill>
        <p:spPr>
          <a:xfrm>
            <a:off x="4952880" y="2971800"/>
            <a:ext cx="36054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Veis un patró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371600"/>
          <a:ext cx="8381880" cy="5230800"/>
        </p:xfrm>
        <a:graphic>
          <a:graphicData uri="http://schemas.openxmlformats.org/drawingml/2006/table">
            <a:tbl>
              <a:tblPr/>
              <a:tblGrid>
                <a:gridCol w="4110120"/>
                <a:gridCol w="4271760"/>
              </a:tblGrid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ua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ach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águila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n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eja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el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aña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uas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ach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águilas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n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ejas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s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el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añas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¿Y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371600"/>
          <a:ext cx="8153280" cy="52308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h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l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la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u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ña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s fresc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h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las calv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ojad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s buen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 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ue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viej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as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</a:t>
                      </a:r>
                      <a:r>
                        <a:rPr b="0" lang="es-ES" sz="36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ñas pequeñ</a:t>
                      </a:r>
                      <a:r>
                        <a:rPr b="0" lang="es-ES" sz="3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Ahora vamos a practicar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-22896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águil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bej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__ agua clar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lga m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lmohada blan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4497120" y="-30240"/>
            <a:ext cx="29516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águil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4421160" y="1400040"/>
            <a:ext cx="284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bej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4497480" y="2209680"/>
            <a:ext cx="243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3333cc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gua cla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4573800" y="3352680"/>
            <a:ext cx="27745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ga m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4496760" y="4541760"/>
            <a:ext cx="36874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lmohada blan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7"/>
          <p:cNvSpPr/>
          <p:nvPr/>
        </p:nvSpPr>
        <p:spPr>
          <a:xfrm>
            <a:off x="4650480" y="5684760"/>
            <a:ext cx="207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440" y="-228960"/>
            <a:ext cx="38098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__ alma bue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__ 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497840" y="-30240"/>
            <a:ext cx="2676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área gran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20080" y="1400040"/>
            <a:ext cx="294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ula pequeñ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498200" y="2209680"/>
            <a:ext cx="3038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rdilla ráp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3440" y="3352680"/>
            <a:ext cx="2654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E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lma bue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496400" y="4541760"/>
            <a:ext cx="3303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ff33cc"/>
                </a:solidFill>
                <a:latin typeface="Times New Roman"/>
              </a:rPr>
              <a:t>La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 avispa enoj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650480" y="5684760"/>
            <a:ext cx="207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lang="es-ES" sz="3400" spc="-1" strike="noStrike">
                <a:solidFill>
                  <a:srgbClr val="000000"/>
                </a:solidFill>
                <a:latin typeface="Times New Roman"/>
              </a:rPr>
              <a:t>asta al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0:34:38Z</dcterms:created>
  <dc:creator>Robert Mills</dc:creator>
  <dc:description/>
  <dc:language>en-US</dc:language>
  <cp:lastModifiedBy>R. Alan Meredith</cp:lastModifiedBy>
  <dcterms:modified xsi:type="dcterms:W3CDTF">2009-07-02T19:52:54Z</dcterms:modified>
  <cp:revision>16</cp:revision>
  <dc:subject/>
  <dc:title>El alma bonita</dc:title>
</cp:coreProperties>
</file>